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9F0-5C2E-488E-8250-D0C0EE6A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D61-BCEC-42A6-AD54-9D321527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0DA-4CB4-4693-B5E5-D0F1F533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15C-DA87-4C35-9145-30D11A5D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7C9-40A7-4993-89EE-46428C60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F4A-EB61-410F-B319-265C7546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A69-2A25-4D1A-939C-2AF0FBC3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420-53B2-45E1-B77D-1B15428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3EB-39EF-4E79-A9F8-912F8605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068-9F05-459A-9929-2F593658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8BF-14A6-46EF-BC45-8848555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4C6-C677-42EE-9E88-FCA3F7E4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5EDB-5D27-43CF-A569-A2DF6D44C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1200" y="0"/>
            <a:ext cx="49903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حيا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بين ي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أشو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ه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ي لست أطل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يئا من ل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ير حبك الأ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والسع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ذي هي طلب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ذي مني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ستجب ل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36880" y="0"/>
            <a:ext cx="44265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شفيني وقت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خبز الس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لما اعتر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ع أو ظم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جعل في ف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ب الإنت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تأني في سبي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فظ و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ذا أخطأ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بني الندم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عزاء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59520" y="0"/>
            <a:ext cx="4489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ضعف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ق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حز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سل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ك القد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دد همتي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بناء الملكو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بين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 الصع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ذكر عه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نتشلن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0:28Z</dcterms:modified>
  <cp:revision>3</cp:revision>
  <dc:subject/>
  <dc:title>PowerPoint Presentation</dc:title>
</cp:coreProperties>
</file>